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238C-6404-4ADB-A24F-D1FFF5895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454C-C9D9-4092-9447-599A0A85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9F8B-BACB-4525-A0B8-9E0E21872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7704-2154-442E-BBEE-93984F190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23CC8-7C75-4775-9B18-944A425E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7205-1198-457A-8B8B-C49A0028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7CCB-89CE-4C01-8A9D-73DECF1A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F50E-E388-46D2-9116-4AAE6DB7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CDDD-856E-4796-9308-0108D23B6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21E4-1080-4584-82C2-AFD6770E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CEA2-B5EF-4B21-93C6-D3F9E70F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C1B2-D229-4D38-9606-681691D2D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F83CB-6AC9-4948-AFE7-4EF670E2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CC50-8630-467A-9300-8B0194EE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2A38-29DC-4190-B208-3B3C706A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E5EC-893D-4C14-85DA-5294E16A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4594-A82E-4501-864A-5D6F019E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8F5A6-C147-47AE-9165-74B46075C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123FF-2D70-4350-849E-746A8F49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E4C1A-6A72-4D92-AED4-EA649384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51F3B-BE21-4825-8604-96904F97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52A4A-CD67-41F5-826D-7AF109E5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1C02-A2AA-4A2A-9E1B-FB6DD787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EE856-0D4A-408F-A11F-2F0F5A22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FEC80-C5E3-4612-A370-C4C3AD51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73DCD-FCC4-45DE-B5BF-EE25C742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AD31E-6ADF-43FB-A4EE-11E4732A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511A5-D5CD-44B6-AABC-21AB23CE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3A4FB-732D-4F83-BE65-B7452B17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E20E0-0937-485B-880D-A98FA1A0B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2F413-E238-4D1C-B1E5-4535C6B2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206DB-9622-4881-87B3-B9DBCF90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F9B50-E579-46AA-A948-F89605BE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A160-2598-47D3-8555-8AB1381B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D2BF4-02BA-48AD-B93B-DB3BCEA7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7537E-03C5-4579-AE7D-CC40CE8D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767B0-9CB9-44D8-890C-312D2A6D5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AB1BF-3F38-4221-B0B6-E6B65795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CFCD2-7379-4DAC-9FC6-4727CB78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5E9F6-5D72-426E-A86D-136E273C4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5D39A-2644-496F-BB23-D127C973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AA5FF1-CA5C-47B1-B2C9-02A50007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070B1-4D32-4C4C-956C-6948CC39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6093-D89D-44C4-8CEA-C2150E29D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CFE5-0DF1-4BB9-BA48-4BB423DD2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986F-F740-4816-942E-5F1DD7E2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37EA-E419-46F1-9A08-1B615E15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9FE6-8E8C-4653-A9D7-9935838C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EE4E-F0B9-4EE3-8E73-4DC83238D30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3DCB6-7AD5-4D59-993C-9B141AA7AB7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6F65-0230-4435-A0A5-796C2725CA4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0963-E109-4B60-8CD7-22421E3BA052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-92160" y="4611600"/>
            <a:ext cx="2995560" cy="2246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404040" y="3854520"/>
            <a:ext cx="2716200" cy="203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894040" y="46911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680080" y="494676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комп5</cp:lastModifiedBy>
  <dcterms:modified xsi:type="dcterms:W3CDTF">2022-11-23T11:33:06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